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8FA-DCE6-4E15-9E38-FA981D23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549-D53E-4282-85C1-F513CE03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8DE-875A-4634-BF5C-4E2BA82E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4E4-906A-4CDD-A83A-E7F20E7A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A6D-A8A1-4D28-AB00-95F673E1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BBF-B222-44AB-B1AC-B4B46B9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A56-DDFB-4ED0-94D3-627CB7F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036-C5B6-4BF0-AE47-0044281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C62-99A9-424A-AB66-7013564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4F07-F5B0-47E1-9D4F-00A7A20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D18B-2ECA-4976-B55B-FE64CB0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FB0-00EB-4EB7-A363-C51488D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92C-EC05-4E7D-BE2D-370C85D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7A6-0A85-4547-B68B-82B0F17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6F9-5B14-4552-A92B-1F02A6EC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0E7B-351A-4B0C-83B8-E8D1A9A1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67BD-0E81-45B1-A837-4D6DC48F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9484-5F26-4A34-AD3A-62F8BE86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149F-A11D-4ED3-B82E-0C5C51F0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DB93-3FAD-40CA-BAA9-C4C2D69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08CB-4EB2-4FED-BAC6-5A101AE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2432-02F2-4DBB-8018-C66CBD0B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FA4-965E-46F9-AC34-940FB68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7D06-E240-4231-913F-B5F4CA9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69F1-3908-4B80-9419-D9433F9C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0602-2902-4627-8C11-F94EBD9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3762-6B8D-4525-8B5C-224DD3B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1209-271A-439B-AFFD-3DAAFF3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1F9B-F8FB-4354-89F5-1317D045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2EC2-D642-4175-9D4B-30097B1D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99647-1ADD-4BDA-BF2F-787D12D1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353F-2B77-49B1-AB40-DCC3A92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76D5-97B0-4B70-86A3-98D0FF1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A5E-7FAA-4879-A57E-27F8FF4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BB21-3B15-42A4-A9AA-788FF65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FEAA-EEB8-4773-B17C-73E265C5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E9EA-58F0-4126-8B9F-CEBBD52E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360C-C559-4778-862E-A54CEB40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C9D3-9B7C-4F2B-BD0F-A2C15E9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7757-59C1-4A7B-AFED-8329193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735F-133C-4590-A66B-CF030229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A13C-133F-492D-9AC3-98064DAD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A1B1-EED1-470D-878B-66934194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39F-8B04-4DDD-9D98-223298C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7E8-13A6-4802-BE9B-2A88387E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5D2-0194-4A3A-8FB5-AF6E62E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07-D318-422F-8703-5A48A44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E92-7DDF-488C-ADD4-F3BABDD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0976-0E57-43CF-ADC0-BB35B8826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486B-1F14-4D30-9603-99831E366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00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A3D-E507-49BA-8346-08E0151C5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149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150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058F-73EF-430D-B5F4-EE56C491A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ir, We Would See Jesu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Christ – Part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 1:1-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B23-7050-4F55-862D-DF71F5A3D5C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charias doub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el declared that Zacharias would be mute until these things are  accomp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zabeth conceived and hid herself for five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1F4-AC03-49B1-B385-6C04463EB67C}" type="slidenum">
              <a:t>10</a:t>
            </a:fld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ings Foretold About John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live his whole life as a “Nazari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“set apart” to serve God in a unique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filled with the Holy Spirit from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4EC-FD5C-4324-9C23-576C85970106}" type="slidenum">
              <a:t>11</a:t>
            </a:fld>
          </a:p>
        </p:txBody>
      </p:sp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onths later, Gabriel appeared to Mary and announce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raculous virgin conception of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068-9E75-4556-9B1F-D000EC2EC8AC}" type="slidenum">
              <a:t>12</a:t>
            </a:fld>
          </a:p>
        </p:txBody>
      </p:sp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ings About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lled “Jes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lled “Son of the Most High” and “Son of Go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ould give Him the throne of His father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kingdom will never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ow we see the unfolding of God’s promises to Abraham and Davi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C89-CF1B-49E9-8006-7D1511BDE484}" type="slidenum">
              <a:t>13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onths later, Gabriel appeared to Mary and announce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raculous virgin conception of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was filled with the Holy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Nazar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d to Joseph of the linage of David (Matthew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45B-F83F-410F-983F-F4E36364DED8}" type="slidenum">
              <a:t>14</a:t>
            </a:fld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ry Visits Elizabeth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39-56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ary greeted Elizabeth, Mary’s cousi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zabeth’s baby leaped inside her wo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was filled with the Holy Spir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essed Mary among women and blessed the fruit of her w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called Mary, “mother of my Lor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’s Song of Exultation and 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stayed with her about three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C12-BE2B-40A0-B35B-795578DBAC71}" type="slidenum">
              <a:t>15</a:t>
            </a:fld>
          </a:p>
        </p:txBody>
      </p: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15B-9840-43DC-920E-6F9994979038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birth of John the Baptist an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910-4D85-4907-8CFE-129B41241C7B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ible Histor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8960" y="1752480"/>
            <a:ext cx="3813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080" y="1752480"/>
            <a:ext cx="381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48769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955-DB88-45DB-85CB-A40E5679D428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88B-DBDF-418A-AED1-BF08D872F8B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ble 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tire bible story climaxes in the coming of the Christ and His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important event in all human history was Deity coming to earth (Christ in human for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this event, no one, not even the best of all the ages, could be saved for in Christ is sal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EF78-9C4B-4107-9951-F0170CB2E0A6}" type="slidenum">
              <a:t>4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asic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9BE-A6F3-4BA4-80D1-1F784F354838}" type="slidenum">
              <a:t>5</a:t>
            </a:fld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the first thirty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John the Bap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k of Joh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FFF-A7D4-4736-8567-D580D59A459E}" type="slidenum">
              <a:t>6</a:t>
            </a:fld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riel, an angel, appeared to Zacharias, a pri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ared that Zacharias’ wife, Elizabeth, would bear a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176-E7A8-4973-8CF6-36751D87E199}" type="slidenum">
              <a:t>7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Zacharias and Elizabeth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he and his wife were a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no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righteous befor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of the course of Abij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was of the daughters of Aa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job was to burn incense in the te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1CE-40DA-4968-B8A9-5DF1751CC3D3}" type="slidenum">
              <a:t>8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riel, an angel, appeared to Zacharias, a pri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ared that Zacharias’ wife, Elizabeth, would bear a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’s mission foretold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ke ready a people prepared for the Lor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4AE-96C8-4247-83F4-74E9CB5FBE63}" type="slidenum">
              <a:t>9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1:28:52Z</dcterms:created>
  <dc:creator> Tab Vines</dc:creator>
  <dc:description/>
  <dc:language>en-US</dc:language>
  <cp:lastModifiedBy>Frank D Vines</cp:lastModifiedBy>
  <dcterms:modified xsi:type="dcterms:W3CDTF">2006-07-05T23:17:17Z</dcterms:modified>
  <cp:revision>22</cp:revision>
  <dc:subject/>
  <dc:title>Sir, We Would See Jesus</dc:title>
</cp:coreProperties>
</file>